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AF5-E948-437D-A8FB-B4EBCEE6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9E6-5003-4AE4-B199-195D622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5DC-8DA7-4C20-B37A-337617B8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BA3-3AC2-462E-A4D5-03F3402C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33A-0568-425F-A22D-359137C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9B9-D50F-4F45-BFF3-2D79DA33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CF5-B0E5-4167-9C6A-35F74C4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DE9-7C93-4634-A83D-330B5211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E75-B97B-48DE-8A24-2EB6F22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976-E4E2-4018-B568-D79ACF86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13F-D8DE-4601-8341-00723D9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1B6-7C15-4DEC-A8FC-DADBD19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6E6D-4D61-46E5-A5FD-271D05A50E1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Rectángulo"/>
          <p:cNvSpPr/>
          <p:nvPr/>
        </p:nvSpPr>
        <p:spPr>
          <a:xfrm>
            <a:off x="900000" y="44280"/>
            <a:ext cx="71834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alibri"/>
              </a:rPr>
              <a:t>ETAPAS PRINCIPALES PRESUPUESTO DEL SECTOR PÚBL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50920" y="1150920"/>
            <a:ext cx="87152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900000" y="44280"/>
            <a:ext cx="71834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alibri"/>
              </a:rPr>
              <a:t>FORMULACIÓN SECTOR PÚBL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 CuadroTexto"/>
          <p:cNvSpPr/>
          <p:nvPr/>
        </p:nvSpPr>
        <p:spPr>
          <a:xfrm>
            <a:off x="522360" y="981000"/>
            <a:ext cx="7561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Quienes particip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El Presidente/a de la República, el Ministerio de Hacienda, la Dirección de Presupuestos (Dipres), los ministros sectoriales y los equipos técnicos de las distintas reparticiones y servici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Plazos y procedimient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Generalmente en julio, el Ministerio de Hacienda envía a los ministerios las instrucciones para todas las partidas presupuestarias mediante oficios. En la página web de la Dirección de Presupuestos son publicados los documentos con los lineamientos generales, formularios e instrucciones (con acceso restringido a los usuario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En las tres primeras semanas de julio, todas las instituciones y servicios preparan el proyecto a nivel institucion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Durante agosto se realiza la discusión interna en el Ministerio de Hacienda en dos etapas. En la primera se hace el análisis global e institucional, con la presentación de los informes sectoriales en las comisiones técnicas integradas por Dipres y representantes de los ministerios y servicios. En la segunda, son presentados los informes al Director/a de Presupuestos, quien luego presenta los suyos al ministro de Hacien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Durante la primera quincena de septiembre corresponde la discusión y aprobación al nivel superior del Gobierno: el proyecto es analizado por el Presidente/a de la República y, tras ser visado por él, el ministro de Hacienda comunica a los ministerios la decisión presidenc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La última semana de septiembre el trabajo final se centra en la Dirección de Presupuestos, donde se prepara el proyecto definitivo, son revisadas las glosas y son elaborados los documentos complementarios, como el Informe de las Finanzas Públic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El Ministerio de Hacienda elabora el oficio y los antecedentes para el mensaje del proyecto de ley. Además, es el encargado de enviar el proyecto al Ministerio Secretaría General de la Presidenc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A más tardar el 30 de septiembre, el proyecto de ley de presupuestos del sector público es despachado al Congreso Nacion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8 Rectángulo"/>
          <p:cNvSpPr/>
          <p:nvPr/>
        </p:nvSpPr>
        <p:spPr>
          <a:xfrm>
            <a:off x="900000" y="44280"/>
            <a:ext cx="71834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alibri"/>
              </a:rPr>
              <a:t>FORMULACIÓN GENDARMERÍ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2 CuadroTexto"/>
          <p:cNvSpPr/>
          <p:nvPr/>
        </p:nvSpPr>
        <p:spPr>
          <a:xfrm>
            <a:off x="522360" y="1112760"/>
            <a:ext cx="75610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Quienes particip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rección de Presupuestos (Dipres), los ministros sectoriales , Ministerio de Justicia, Dirección Nacional, Subdirecciones , Unidades Funcionales de Gendarmería y Unidad de Planificación y Control de Gest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Plazos y procedimien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e Enero a Abril : </a:t>
            </a: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Presupuesto Exploratorio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rimera etapa del proceso “Construcción de Presupuesto”, está constituida por la definición de Metas y Presupuesto Exploratorio. Este documento constituye la primera aproximación a las orientaciones que tendrá el Proyecto de Presupuesto del  Año)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e Mayo a Julio : </a:t>
            </a: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Proyecto de Presupuesto 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(ajustes y reformulación del presupuesto exploratorio en conjunto con el Ministerio de Justic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e Agosto a Octubre : Minuta Ministro y Minuta Congr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ciembre : Distribución Presupuesto ( a nivel na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8 Rectángulo"/>
          <p:cNvSpPr/>
          <p:nvPr/>
        </p:nvSpPr>
        <p:spPr>
          <a:xfrm>
            <a:off x="900000" y="44280"/>
            <a:ext cx="71834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DISCUSIÓN Y APROB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Diagrama" descr=""/>
          <p:cNvPicPr/>
          <p:nvPr/>
        </p:nvPicPr>
        <p:blipFill>
          <a:blip r:embed="rId1"/>
          <a:stretch/>
        </p:blipFill>
        <p:spPr>
          <a:xfrm>
            <a:off x="957240" y="1474920"/>
            <a:ext cx="7010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8 Rectángulo"/>
          <p:cNvSpPr/>
          <p:nvPr/>
        </p:nvSpPr>
        <p:spPr>
          <a:xfrm>
            <a:off x="900000" y="44280"/>
            <a:ext cx="71834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DISCUSIÓN Y APROB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81200" y="1267920"/>
            <a:ext cx="7921440" cy="4681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Congreso Na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l proyecto debe ser estudiado e informado a la Comisión Mixta de Presupuestos que desde el 2003 tiene carácter de perman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La Comi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Deberá ser integrada por igual número de Diputados y Senadores de las Comisiones de Hacienda, y será presidida por un Senador escogido por acuerdo de sus Miembr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Designa subcomisiones para el estudio de las diversas Partidas Presupuestarias que deberán a su vez emitir un informe completo de las Partidas de su compet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Informar a la Cámara en el término de 15 días seguidos, salvo acuerdo de prorroga otorgada por tal Cáma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0T19:18:27Z</dcterms:created>
  <dc:creator>sergio.bravo</dc:creator>
  <dc:description/>
  <dc:language>en-US</dc:language>
  <cp:lastModifiedBy>Grace J. Cosgrove Concha</cp:lastModifiedBy>
  <dcterms:modified xsi:type="dcterms:W3CDTF">2022-01-12T19:20:45Z</dcterms:modified>
  <cp:revision>5</cp:revision>
  <dc:subject/>
  <dc:title>Presentación de PowerPoint</dc:title>
</cp:coreProperties>
</file>